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8648-6889-4588-BCB9-B00017739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F545-4467-4404-ACDE-03070FB50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90D-41E7-4B01-80F4-2A6CCBF4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436-DC43-4055-884F-CCB8AF6D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1DC-B85B-45E9-B874-A9CEE5A9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D37-509C-45AC-B90B-B293738C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631-FB29-4853-9043-44BFEB24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6FB-621F-449D-953B-B7B50596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A4F-DFDB-43AF-9654-8A642D6F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178-3135-4FA4-B26E-395FDFF5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2C2-A987-4470-ADC6-586E0DBC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34E-0545-489D-A413-B363FA55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F3E-612C-4B29-B17D-F20C6FE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F5C-EAA1-4BC0-8E2F-92E5FDA0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4CD8-F9FA-4B14-914A-D4C045F5E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Human Resources (HR) Management and Payroll Processes</a:t>
            </a:r>
            <a:br>
              <a:rPr sz="4000"/>
            </a:b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35809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counting Information Syste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7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ric J. Gelinas and Richard Du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79132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© 2008 Thomson Southwestern, a part of The Thomson Corporation. Thomson, the Star logo, and South-Western are trademarks used herein under licen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217-EB72-42B3-86E0-0713528433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ster Data related to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R and PR Fun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yroll fun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es authorization for payroll ev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in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ical payroll data - periodic repor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irement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1657440"/>
            <a:ext cx="41148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R fun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ee's assigned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phon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te and manage human capital skil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 evalu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7D8-9668-408D-BFF8-E1BD7FEDC8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yroll Process Context Diagra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52480" y="1471680"/>
            <a:ext cx="549144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1F0-06F5-4745-949A-AC9B15356D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Process: Level 0 DF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5400000">
            <a:off x="1795320" y="-42840"/>
            <a:ext cx="5476680" cy="754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1BB-4DCA-4473-AF50-9F9F944874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304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yroll Process – Diagram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35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331-3662-4017-8DAC-E2A2AE00C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counting Entries – Payroll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 EMPLOYE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ABLISH VARIOUS PAYROLL LIABILITI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roll clear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T withholdings payabl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T withholdings payabl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CA tax withholdings payabl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rued payrol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 THE DISBURSEMENT OF CASH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crued payrol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TRIBUTE PAYROLL TO VARIOUS ACCOU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ork in process (direct labor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ufacturing overhead (indirect labor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neral and administrative expens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lling expens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yroll clear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BBD-1152-4F27-BF0B-2CCA37A06E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counting Entries Cont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RUE EMPLOYER PAYROLL TAX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ing overhead (tax on factory workers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and administrative expens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ling expens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CA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T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TA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TAX DEPOSI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T withholding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T withholding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CA tax withholding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CA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T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TA taxes paya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728-934C-4859-BD15-51183F8AB0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Process Flowcha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5400000">
            <a:off x="1913760" y="-390240"/>
            <a:ext cx="5143680" cy="821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478-7933-408E-8639-2D823DC587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yroll Has High Fraud Potent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payroll fraud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host employees (employees who don’t exist but are issued paycheck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sified hours (employees who overstate hours worke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ission schemes (collecting commissions on false sales or using false commission ra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er’s comp schemes (faking injury to receive compens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453-0934-40A6-BC14-74A4604FEB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System Contr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gregation of duties between HR (employee record creation), payroll (prepares payroll) and AP/cashier (disburses cas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deposit (eliminates opportunity for check frau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of employee master data for duplicate names and/or social security nu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rison of actual payroll to 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D70-035D-42C5-921A-3F3DFAB3FD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imbursement Frau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imbursement for employee business expenses often clear the payroll syst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iming personal expenses as business rel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ing receipts to increase expen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mitting false receip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mitting same expense multiple t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BA7-888B-43C6-8285-3C8D8B0A46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and understand the basic functions of the HR management and payroll proc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be the relationship between the HR management and payroll processes and their environ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ehend the relationship between the HR management and payroll processes and management decision ma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ict the logical and physical elements of the HR management and payroll proc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be some of the technology used to implement the HR management and payroll proc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a control matrix for a typical payroll process, including explanation of how business process control plans can accomplish payroll operations and information control go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C0B-BA00-4680-B2FF-2156154BA3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yroll Process Control Matr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954160"/>
                <a:gridCol w="417600"/>
                <a:gridCol w="525600"/>
                <a:gridCol w="561960"/>
                <a:gridCol w="797040"/>
                <a:gridCol w="798480"/>
                <a:gridCol w="434880"/>
                <a:gridCol w="471600"/>
                <a:gridCol w="434880"/>
                <a:gridCol w="415800"/>
                <a:gridCol w="4176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Payroll Business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mended control plan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ment of resourc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ime data inputs, ensure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empl/PR master data, ensure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Contro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: Enter time data close to the data’s originating sour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: Computer agreement of batch tot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:     Approve attendance time data and job time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:     Reconcile attendance time data and job time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:     Distribute labor co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:     Independent paycheck distrib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:     Approve payroll transfer che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:     Accumulate payroll data for reconciliation of the payroll clearing acc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:     Use a payroll clearing acc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0:    Prepare miscellaneous re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4C0-05BE-481F-AC4A-5C9FEFC200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Process Control Matri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240" cy="3809520"/>
        </p:xfrm>
        <a:graphic>
          <a:graphicData uri="http://schemas.openxmlformats.org/drawingml/2006/table">
            <a:tbl>
              <a:tblPr/>
              <a:tblGrid>
                <a:gridCol w="3324600"/>
                <a:gridCol w="532800"/>
                <a:gridCol w="478080"/>
                <a:gridCol w="513720"/>
                <a:gridCol w="624960"/>
                <a:gridCol w="550800"/>
                <a:gridCol w="404280"/>
                <a:gridCol w="422640"/>
                <a:gridCol w="459360"/>
                <a:gridCol w="422280"/>
                <a:gridCol w="495720"/>
              </a:tblGrid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Payroll Business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mended control pla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ment of resourc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ime data inputs, ensure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empl/PR master data, ensure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ing Contro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 Independent reconciliation of payroll bank acc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 Use an imprest payroll bank acc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2 Computer agreement of batch totals (agree run-to-run total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3520" y="5715000"/>
            <a:ext cx="777240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ness goal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— Provide employees with timely pay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— Provide timely filing of tax returns and other reports to government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— Comply with requirements of payroll and tax laws and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62D-1BDB-4C5F-B74B-25CED0F679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Part of HR Modu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common for payroll to be part of the HR module in software (SAP examp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35812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DF1-6214-4E85-A23F-8B2038C901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gure 14.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R module includes options for both HR and payroll, among oth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dvantages gained by allowing the two processes to share common data inclu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ing a single source for obtaining HR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ing for faster data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ing data redunda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ing data integrity and consist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ing data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ing data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F9F-AC13-4577-BBC2-F5BE53B50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ss Inputs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general, the HR forms in the figure capture information about three HR-related events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selecting employ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evaluating employees, an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terminating employ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148-8405-462E-A24A-171F023833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lect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s may be initiated in one of two way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artmental managers (outside the HR department) may initiate the process to satisfy their immediate hiring n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ion process may be started by the system automatic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072-35F3-421F-8DAD-25A0B66D1A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valuat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s comprises a multitude of activ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artmental managers and supervisors (again, outside the HR function) usually initiate evaluations or other changes affecting employe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anager of personnel appraisal and development (in HR) typically approves the review and implements such chan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02E-5C13-4BE1-8557-5EA609B9CB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erminat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loyees closes the employment process l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ically, departmental managers and supervisors (in concert with HR managers) must make difficult decisions about the retention of employ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termination is necessary, the employee change screen is used to initiate the process of changing an employee’s status from current employee to terminated employ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C68-C8A1-49F4-847E-A03938D9FF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cessing Logic and Process Output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R requests initiated outside of the HR department are approved within that department and then routed to HR for approv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data may be entered within H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mployee/payroll master data, skills inventory data, and labor-force planning data within the enterprise database are updated and various reports are made availab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ral outputs are produc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hir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employment letter is sent to the employe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ion notice is sent to the department mana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edback on job performan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 review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mination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 are notified of a dismissal through a dismissal let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mination notice sent to the operating department manag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8F8-35D0-4FA2-98E7-E81FE7FDD7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lementing the HRM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M process prepares reports for government and non-government ent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roll reports: employee federal, state, and local tax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reports might include those provided to the following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al Employment Opportunity (EE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tional Safety and Health Administration (OSH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ment of Lab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lso numerous communications to employees of HR-related informa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b opening announc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ining info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efits litera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icy and procedure manuals, and the like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companies have found that such materials can be disseminated effectively and efficiently through an HR portal, which serves as a central data source for such inform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92F-3FC3-4496-A86D-67658A4166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cess Definition and Fun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nel management started by handling payroll and personnel administration, but evolved by adding functions to handle recruiting, employee relations, and so 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M still viewed personnel as something that could be control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CM philosophy is based on three major principl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dividual’s value to an organization is derived from his/her job-related knowledge, skills, attitude, and motiv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 assets include full-time permanent employees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lu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-time employees, temporary employees, and independent contractor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upply chain managem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an organization’s human assets could include employees of suppliers, sales channel partners, and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erson’s relationship with an organization, from hiring through termination, must be nurtured and managed to obtain maximum lifetime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B7A-C07C-4B6B-A09B-2BA254F11A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R Management Flowcha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117440"/>
            <a:ext cx="7543800" cy="543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E58-8FD0-41FB-B3AE-4E8EBE31D2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Data Tables in  the HR Pro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ough the flowchart shows only one data store, multiple database tables are contain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loyee/payroll master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bor-force planning dat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ffing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ill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rnover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ills inventory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EAB-E754-4F80-BA88-9727BF6BA1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Payroll Proce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yroll generally falls under the controller’s office with the treasurer participating in distributing payche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96240" cy="411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2BD-2843-470A-9629-0AA89C4C46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yroll Data and Flow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x rates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ains current tax rates (federal, state, county and city) for employee withholding and employer accru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endance time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s hours employee are at the job site available for work; usually kept on time c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b time rec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and stop times for particular jobs for direct labor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685-5CA6-46AE-BB60-DCD6B74F90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ederal Payroll Tax Repor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41 (report of FICA taxable wag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-2 (employee wage and tax statem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99 (reports non-salary incom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Retirement Income Security Act (ERISA) reports (reports on private pension fund assets managem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8D9-5CB0-477B-92E4-22A2DCED74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uties of HR Manage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009800"/>
            <a:ext cx="4698720" cy="57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E71-138F-41DF-B018-62F44B02CD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uties of HR Manage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1265400"/>
            <a:ext cx="5639040" cy="51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1B2-C8E0-4966-9B23-79ACB918A6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tion of HR Management Pro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function of the HRM process is to create information flows that support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titive work routines of the HR depar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 needs of those who manage the HR depar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RM process supports the work routines of the HR department and provides information for management decisions b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turing, recording, and storing data concerning HR activ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ing a variety of HR forms and docu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ing management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ing governmental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049-474D-4A56-86C1-EDC1FC2752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ayroll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companies often merge payroll and 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ayroll process maintains records of payroll taxes, fringe benefits, attendance/absence, time worked and employee payche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ayroll process is generally automated because computers are much faster at handling the repetitive computations necessary (payroll is also the most frequently outsourced application in account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HR software reaches far beyond simply doing payroll and includ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admin, applicant tracking/processing, skills inventories and compliance repor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ch of HRM is NOT captured by GA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accountants must recognize the immense value of human capital and its affect on the long-term financial health of the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6D1-8C1D-4313-A865-DF2DD0B4CE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zation Chart of the HR Func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6896160" cy="21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1DB-F2B0-4EF3-933C-0B5606EC0D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chnology Trends and Developm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R self service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 Manu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ement pro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pro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nse repo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sourc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-based collabo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yro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nterprise systems may integrate HRM wi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s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and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orkflow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F54-CD16-4975-8B8C-3F20AB3938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20:29:55Z</dcterms:created>
  <dc:creator>Sarah Bee</dc:creator>
  <dc:description/>
  <dc:language>en-US</dc:language>
  <cp:lastModifiedBy> </cp:lastModifiedBy>
  <dcterms:modified xsi:type="dcterms:W3CDTF">2008-06-09T20:29:31Z</dcterms:modified>
  <cp:revision>23</cp:revision>
  <dc:subject/>
  <dc:title>Chapter 14</dc:title>
</cp:coreProperties>
</file>